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598-F0D8-4DB8-9FB6-62FF9BD9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65A-5698-4752-957D-4C13BA30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61F-1BC5-4831-9639-2FEFE60B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248-492C-449A-BE7D-A22E58E3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A4FC-9FF2-4FE9-BD41-D9D8D9B8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03D6-3429-4E30-96CD-8BD6D1D5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648D-BA89-4F31-A725-93E2326F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DA84-F3F2-47B8-BED1-D05023E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F457-BD49-4609-B2F4-B127DD27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8C60-1F70-40AF-9BAC-50CCF902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2064-E4B7-4214-92CC-0BFBCFE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A7C-8823-417E-948C-2B32809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016-66A3-43A7-9220-0B13526E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DFB-B819-4B08-8C8A-D5A77C5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237-37C8-49CA-AD2A-0B095F91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4A0B-E6B4-434D-AFA8-191910EA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602A-153B-4C75-98C1-A3B94978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AEB-88B7-4633-80D1-939BF162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9A0-B96B-4028-B34A-6FB0BB3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682-92D5-44ED-862A-5489BD8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07A-9DD8-4C65-AAD5-D2249F2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BF7-4AC2-4371-B35C-1397A153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2C7-F537-43DE-A3CF-12301EF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B5B-9A80-41C5-AA9C-E956574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974D-124F-4216-B53F-D5D6925639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AB82-B78F-4718-B45B-BD2DE968F5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560" y="243828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219320"/>
            <a:ext cx="918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irates Vocabul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62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116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94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76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744560"/>
            <a:ext cx="6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34520" y="182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2291040" cy="34858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670280" y="2362320"/>
            <a:ext cx="306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87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200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190760" cy="31366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657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805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1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572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200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1971720" cy="30481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984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42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572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193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74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54320" y="216540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807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91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164200" y="1447920"/>
            <a:ext cx="3639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7191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3505320" cy="31273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2633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193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53240" y="21654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49240" y="179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012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132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5120" y="182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36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296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9840" y="9907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68800" y="2819520"/>
            <a:ext cx="41986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8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206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4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168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8748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4960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78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3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1904760" cy="3124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64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848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401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62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967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3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1920" y="5335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4419720" cy="2475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9625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7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41148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94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07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42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572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197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17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74240" y="3049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1040" y="2209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168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97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57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7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8088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42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9400" y="205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732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9800" y="2133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9568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343400" cy="35384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0481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72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763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907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141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43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4444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53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959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7200" y="609480"/>
            <a:ext cx="84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06320" y="1905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809800" y="2438280"/>
            <a:ext cx="308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41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064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402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59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75248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0440" y="171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19600" y="18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79440" y="33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9240" y="182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353040" cy="2538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5909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49:56Z</dcterms:modified>
  <cp:revision>18</cp:revision>
  <dc:subject/>
  <dc:title>No Slide Title</dc:title>
</cp:coreProperties>
</file>